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415-073C-4FBF-AB08-103C7C4F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E10-E996-4228-B5DC-462EC2AE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1DC-944A-468F-AB76-96716C8F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F2B-F780-42CC-984C-CF2759BE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344D-9156-47F5-BB6F-37409860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D5A-E93B-4F10-B239-B6FF8F1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DF2-7933-4D0C-8E6C-AD01A55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EC33-F0D5-404F-8D71-E7CC654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B6D9-0FB8-4821-9585-367E0D8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E564-C7D9-4FB6-9F07-637E1C8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5C2A-C8DB-447A-AD72-CB9F6DD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65F-1287-465E-A86C-5E00BDE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7982-2AA7-4C00-B558-F8F9336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091E-1A1B-4F5E-B95E-1FDEE8FC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F9A9-F7E2-4E84-B707-0DD1FB5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945-3D36-481E-AF55-C81FE4F8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8ED-7756-4622-8901-1E339C8C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977-368C-406F-BF23-53CC76E1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B60-5A79-4FC7-9806-7698F6B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620-94D3-4602-AABD-AE26AB24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56C-C368-4FDC-82D8-DE3F68E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D81-1C0E-4602-8C7C-3ED01BC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5A7-73AB-46BA-89D2-29B53ED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A92-9FF8-4628-BD02-E60A0A5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EC1-14A4-4BE4-8A32-C8FA5395000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4A3-241F-4AB7-B74E-C04C5D1BB9A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renchnetwork-act.wikispaces.com/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omic Sans MS"/>
              </a:rPr>
              <a:t>French Network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imary – 31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M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econdary – 10 Ju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81900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Slow reveal (with objectives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2484360" y="388620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Repeat in True – All in a 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4104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b200"/>
                </a:solidFill>
                <a:latin typeface="Comic Sans MS"/>
              </a:rPr>
              <a:t>Missing pi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516200" cy="338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851280" y="3146400"/>
            <a:ext cx="49482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748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Mime and Gu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021280" cy="3765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oloured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2532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Jeu de on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5325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Army General – Ping Po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316400" cy="244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882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-763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hef d’orchest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7770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Back to 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85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Connect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5325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as of activities (Powerpoint, IWB, songs, OHT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Wiki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Have a go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Treasure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821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748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Battle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SO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32200" y="189000"/>
            <a:ext cx="614412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ur French Network « wiki »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renchnetwork-act.wikispaces.com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32780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21028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Line 4"/>
          <p:cNvSpPr/>
          <p:nvPr/>
        </p:nvSpPr>
        <p:spPr>
          <a:xfrm flipV="1">
            <a:off x="6227640" y="119700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381400" y="2557440"/>
            <a:ext cx="4381200" cy="17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826596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Line 4"/>
          <p:cNvSpPr/>
          <p:nvPr/>
        </p:nvSpPr>
        <p:spPr>
          <a:xfrm flipV="1">
            <a:off x="6588000" y="1268280"/>
            <a:ext cx="79236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417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103120" cy="388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059280" y="476280"/>
            <a:ext cx="2330280" cy="295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5580000" y="549360"/>
            <a:ext cx="209232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2736720" cy="103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69320" cy="704520"/>
          </a:xfrm>
          <a:prstGeom prst="rect">
            <a:avLst/>
          </a:prstGeom>
          <a:ln w="0">
            <a:noFill/>
          </a:ln>
        </p:spPr>
      </p:pic>
      <p:sp>
        <p:nvSpPr>
          <p:cNvPr id="225" name="Line 4"/>
          <p:cNvSpPr/>
          <p:nvPr/>
        </p:nvSpPr>
        <p:spPr>
          <a:xfrm flipH="1">
            <a:off x="2987280" y="1052640"/>
            <a:ext cx="129708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"/>
          <p:cNvSpPr/>
          <p:nvPr/>
        </p:nvSpPr>
        <p:spPr>
          <a:xfrm flipH="1" flipV="1">
            <a:off x="4284360" y="2492280"/>
            <a:ext cx="129708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184720" cy="3975120"/>
          </a:xfrm>
          <a:prstGeom prst="rect">
            <a:avLst/>
          </a:prstGeom>
          <a:ln w="0">
            <a:noFill/>
          </a:ln>
        </p:spPr>
      </p:pic>
      <p:sp>
        <p:nvSpPr>
          <p:cNvPr id="228" name="Line 3"/>
          <p:cNvSpPr/>
          <p:nvPr/>
        </p:nvSpPr>
        <p:spPr>
          <a:xfrm flipH="1" flipV="1">
            <a:off x="6012000" y="2565360"/>
            <a:ext cx="129672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488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Comic Sans MS"/>
              </a:rPr>
              <a:t>Activities for presenting, repeating and practising languag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Ideas from St Martins college / University of Lancaster (Englan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Quick flash on Power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3348000" y="2421000"/>
            <a:ext cx="2447640" cy="2959200"/>
            <a:chOff x="3348000" y="2421000"/>
            <a:chExt cx="2447640" cy="2959200"/>
          </a:xfrm>
        </p:grpSpPr>
        <p:pic>
          <p:nvPicPr>
            <p:cNvPr id="158" name="Picture 3" descr="EDS009"/>
            <p:cNvPicPr/>
            <p:nvPr/>
          </p:nvPicPr>
          <p:blipFill>
            <a:blip r:embed="rId1"/>
            <a:stretch/>
          </p:blipFill>
          <p:spPr>
            <a:xfrm>
              <a:off x="3348000" y="2421000"/>
              <a:ext cx="1522080" cy="29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4"/>
            <p:cNvSpPr/>
            <p:nvPr/>
          </p:nvSpPr>
          <p:spPr>
            <a:xfrm>
              <a:off x="4644720" y="2637000"/>
              <a:ext cx="1150920" cy="720720"/>
            </a:xfrm>
            <a:prstGeom prst="wedgeEllipseCallout">
              <a:avLst>
                <a:gd name="adj1" fmla="val -90689"/>
                <a:gd name="adj2" fmla="val 546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0" name="Picture 5" descr="Big_Mth"/>
            <p:cNvPicPr/>
            <p:nvPr/>
          </p:nvPicPr>
          <p:blipFill>
            <a:blip r:embed="rId2"/>
            <a:stretch/>
          </p:blipFill>
          <p:spPr>
            <a:xfrm>
              <a:off x="4932000" y="2779920"/>
              <a:ext cx="720720" cy="31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Text Box 6"/>
          <p:cNvSpPr/>
          <p:nvPr/>
        </p:nvSpPr>
        <p:spPr>
          <a:xfrm>
            <a:off x="-5976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0000"/>
                </a:solidFill>
                <a:uFillTx/>
                <a:latin typeface="Comic Sans MS"/>
              </a:rPr>
              <a:t>Règle numéro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6858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16000" y="7074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31640" y="728964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faut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lever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4000" spc="-1" strike="noStrike">
                <a:solidFill>
                  <a:srgbClr val="cc0000"/>
                </a:solidFill>
                <a:latin typeface="Comic Sans MS"/>
              </a:rPr>
              <a:t>la</a:t>
            </a:r>
            <a:r>
              <a:rPr b="1" lang="fr-FR" sz="4000" spc="-1" strike="noStrike">
                <a:solidFill>
                  <a:srgbClr val="000000"/>
                </a:solidFill>
                <a:latin typeface="Comic Sans MS"/>
              </a:rPr>
              <a:t> main pour </a:t>
            </a:r>
            <a:r>
              <a:rPr b="1" lang="fr-FR" sz="4000" spc="-1" strike="noStrike">
                <a:solidFill>
                  <a:srgbClr val="00b200"/>
                </a:solidFill>
                <a:latin typeface="Comic Sans MS"/>
              </a:rPr>
              <a:t>par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-3.7037E-007 L 0.00191 -0.23611 E">
                                      <p:cBhvr>
                                        <p:cTn id="4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voyagesscolaires"/>
          <p:cNvPicPr/>
          <p:nvPr/>
        </p:nvPicPr>
        <p:blipFill>
          <a:blip r:embed="rId1"/>
          <a:stretch/>
        </p:blipFill>
        <p:spPr>
          <a:xfrm>
            <a:off x="3059280" y="1628640"/>
            <a:ext cx="3517560" cy="3183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79280" y="6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0960" y="2676600"/>
            <a:ext cx="163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0" spc="-1" strike="noStrike">
                <a:solidFill>
                  <a:srgbClr val="1a8911"/>
                </a:solidFill>
                <a:latin typeface="Comic Sans MS"/>
              </a:rPr>
              <a:t>++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144000" y="404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9144000" y="33336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144000" y="404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1a8911"/>
                </a:solidFill>
                <a:latin typeface="Comic Sans MS"/>
              </a:rPr>
              <a:t>beaucoup plus de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voyages sco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900000" y="2924280"/>
            <a:ext cx="1295640" cy="1224000"/>
          </a:xfrm>
          <a:prstGeom prst="ellipse">
            <a:avLst/>
          </a:prstGeom>
          <a:noFill/>
          <a:ln w="76320">
            <a:solidFill>
              <a:srgbClr val="1a8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robot"/>
          <p:cNvPicPr/>
          <p:nvPr/>
        </p:nvPicPr>
        <p:blipFill>
          <a:blip r:embed="rId1"/>
          <a:stretch/>
        </p:blipFill>
        <p:spPr>
          <a:xfrm>
            <a:off x="-757080" y="-1611360"/>
            <a:ext cx="2676240" cy="1314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22120" y="443700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99"/>
                </a:solidFill>
                <a:latin typeface="Comic Sans MS"/>
              </a:rPr>
              <a:t>Il y aura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des robots au lieu des professe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robot"/>
          <p:cNvPicPr/>
          <p:nvPr/>
        </p:nvPicPr>
        <p:blipFill>
          <a:blip r:embed="rId2"/>
          <a:stretch/>
        </p:blipFill>
        <p:spPr>
          <a:xfrm>
            <a:off x="2411280" y="1844640"/>
            <a:ext cx="3600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3.7037E-007 L 0.18125 0.14792 L 0.32622 0.14792 L 0.25382 0.29861 L 0.32622 0.44653 L 0.18125 0.44653 L 0.10903 0.59722 L 0.03681 0.44653 L -0.10798 0.44653 L -0.03576 0.29861 L -0.10798 0.14792 L 0.03681 0.14792 L 0.10903 3.7037E-007 Z">
                                      <p:cBhvr>
                                        <p:cTn id="74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3.7037E-007 L 0.18125 0.14792 L 0.32622 0.14792 L 0.25382 0.29861 L 0.32622 0.44653 L 0.18125 0.44653 L 0.10903 0.59722 L 0.03681 0.44653 L -0.10798 0.44653 L -0.03576 0.29861 L -0.10798 0.14792 L 0.03681 0.14792 L 0.10903 3.7037E-007 Z">
                                      <p:cBhvr>
                                        <p:cTn id="78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4240" y="-4291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omic Sans MS"/>
              </a:rPr>
              <a:t>Promethean Whitebo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4071960" cy="3081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357800" y="3429000"/>
            <a:ext cx="4311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-532080"/>
            <a:ext cx="7270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b200"/>
                </a:solidFill>
                <a:latin typeface="Comic Sans MS"/>
              </a:rPr>
              <a:t>Keyhole on IW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6227640" y="1989000"/>
            <a:ext cx="2160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0:22:56Z</dcterms:created>
  <dc:creator>Ludivine Legal</dc:creator>
  <dc:description/>
  <dc:language>en-US</dc:language>
  <cp:lastModifiedBy>ludivine</cp:lastModifiedBy>
  <dcterms:modified xsi:type="dcterms:W3CDTF">2010-06-08T10:45:25Z</dcterms:modified>
  <cp:revision>9</cp:revision>
  <dc:subject/>
  <dc:title>French Network Workshop</dc:title>
</cp:coreProperties>
</file>